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36A97-E3A5-40B6-9983-363EC94582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839E09E-E5D0-4E97-8008-3DBD21B527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9"/>
          </p:nvPr>
        </p:nvSpPr>
        <p:spPr/>
        <p:txBody>
          <a:bodyPr/>
          <a:p>
            <a:fld id="{BC0B34EC-3B95-4246-A5B7-B738291CA3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9"/>
          </p:nvPr>
        </p:nvSpPr>
        <p:spPr/>
        <p:txBody>
          <a:bodyPr/>
          <a:p>
            <a:fld id="{7944C4F0-21B5-4C1A-B450-F3CA4FDF29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9"/>
          </p:nvPr>
        </p:nvSpPr>
        <p:spPr/>
        <p:txBody>
          <a:bodyPr/>
          <a:p>
            <a:fld id="{E2C02280-2B9A-496E-B530-CF33FA8E2F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9"/>
          </p:nvPr>
        </p:nvSpPr>
        <p:spPr/>
        <p:txBody>
          <a:bodyPr/>
          <a:p>
            <a:fld id="{8B51F8C2-139D-47FB-A79C-38F36EE1F9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9"/>
          </p:nvPr>
        </p:nvSpPr>
        <p:spPr/>
        <p:txBody>
          <a:bodyPr/>
          <a:p>
            <a:fld id="{A2DD8D50-01EA-4DD9-958B-1F2F1C880E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9"/>
          </p:nvPr>
        </p:nvSpPr>
        <p:spPr/>
        <p:txBody>
          <a:bodyPr/>
          <a:p>
            <a:fld id="{D3292F8F-46A1-4761-BBF3-A925AA984E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9"/>
          </p:nvPr>
        </p:nvSpPr>
        <p:spPr/>
        <p:txBody>
          <a:bodyPr/>
          <a:p>
            <a:fld id="{47FEC179-2FD0-4638-A4D9-510CC1A5CE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9"/>
          </p:nvPr>
        </p:nvSpPr>
        <p:spPr/>
        <p:txBody>
          <a:bodyPr/>
          <a:p>
            <a:fld id="{8F7DD016-9D0D-4A8F-90ED-6D738733F7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9"/>
          </p:nvPr>
        </p:nvSpPr>
        <p:spPr/>
        <p:txBody>
          <a:bodyPr/>
          <a:p>
            <a:fld id="{68BB73BB-2F8C-4E12-A75D-B602B1C7288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1248ADF-1095-4E77-9BBC-6EA293EC1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3D21B349-58D2-4A43-9B33-9219FDFC418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0"/>
          </p:nvPr>
        </p:nvSpPr>
        <p:spPr/>
        <p:txBody>
          <a:bodyPr/>
          <a:p>
            <a:fld id="{9618C87A-0BB8-48D2-A1BB-0FA30A8A20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0"/>
          </p:nvPr>
        </p:nvSpPr>
        <p:spPr/>
        <p:txBody>
          <a:bodyPr/>
          <a:p>
            <a:fld id="{37DB3529-5753-40E7-83CF-C0E7CBFBBB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0"/>
          </p:nvPr>
        </p:nvSpPr>
        <p:spPr/>
        <p:txBody>
          <a:bodyPr/>
          <a:p>
            <a:fld id="{B0C1D40A-B55E-429A-A12D-4DCF6ED7AA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0"/>
          </p:nvPr>
        </p:nvSpPr>
        <p:spPr/>
        <p:txBody>
          <a:bodyPr/>
          <a:p>
            <a:fld id="{2CFAB728-FD99-4208-995A-AAD11C2C70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0"/>
          </p:nvPr>
        </p:nvSpPr>
        <p:spPr/>
        <p:txBody>
          <a:bodyPr/>
          <a:p>
            <a:fld id="{1C355796-E940-4C8E-90AF-3E78B20E0A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0"/>
          </p:nvPr>
        </p:nvSpPr>
        <p:spPr/>
        <p:txBody>
          <a:bodyPr/>
          <a:p>
            <a:fld id="{09D4AA43-61EE-4772-A594-8C46AB91BB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0"/>
          </p:nvPr>
        </p:nvSpPr>
        <p:spPr/>
        <p:txBody>
          <a:bodyPr/>
          <a:p>
            <a:fld id="{799E366F-2EB3-49EA-A0E6-CED218F88D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0"/>
          </p:nvPr>
        </p:nvSpPr>
        <p:spPr/>
        <p:txBody>
          <a:bodyPr/>
          <a:p>
            <a:fld id="{57A51A89-BBE2-48AB-B485-D6558AC8A5B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0"/>
          </p:nvPr>
        </p:nvSpPr>
        <p:spPr/>
        <p:txBody>
          <a:bodyPr/>
          <a:p>
            <a:fld id="{1B804A20-53FA-40C2-A570-8729475B7A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0"/>
          </p:nvPr>
        </p:nvSpPr>
        <p:spPr/>
        <p:txBody>
          <a:bodyPr/>
          <a:p>
            <a:fld id="{8E31804F-4D31-49CC-AE67-E568663F4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81EBCD09-649E-4BD4-BAF7-FEB789B552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0"/>
          </p:nvPr>
        </p:nvSpPr>
        <p:spPr/>
        <p:txBody>
          <a:bodyPr/>
          <a:p>
            <a:fld id="{3FD7A721-BBAC-47F0-BF3E-1A52082A8D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881629B-7314-4724-B6D7-8AC430E2FB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1"/>
          </p:nvPr>
        </p:nvSpPr>
        <p:spPr/>
        <p:txBody>
          <a:bodyPr/>
          <a:p>
            <a:fld id="{3F350FD0-4016-48B2-91DA-74E959DBFF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1"/>
          </p:nvPr>
        </p:nvSpPr>
        <p:spPr/>
        <p:txBody>
          <a:bodyPr/>
          <a:p>
            <a:fld id="{E5F7757C-F0C6-4DAF-A2B3-02F168E1E43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1"/>
          </p:nvPr>
        </p:nvSpPr>
        <p:spPr/>
        <p:txBody>
          <a:bodyPr/>
          <a:p>
            <a:fld id="{287858C9-557A-45D5-A5D7-F08043A652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1"/>
          </p:nvPr>
        </p:nvSpPr>
        <p:spPr/>
        <p:txBody>
          <a:bodyPr/>
          <a:p>
            <a:fld id="{8E495795-B985-4CBA-A9F9-26CC9E5B33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1"/>
          </p:nvPr>
        </p:nvSpPr>
        <p:spPr/>
        <p:txBody>
          <a:bodyPr/>
          <a:p>
            <a:fld id="{C62F0F31-E113-45EA-A789-83442A622C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1"/>
          </p:nvPr>
        </p:nvSpPr>
        <p:spPr/>
        <p:txBody>
          <a:bodyPr/>
          <a:p>
            <a:fld id="{02C44A1F-15EF-4188-BA0F-40DEFD324E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1"/>
          </p:nvPr>
        </p:nvSpPr>
        <p:spPr/>
        <p:txBody>
          <a:bodyPr/>
          <a:p>
            <a:fld id="{BBE75177-0367-4D22-9CB1-C0D2B2D3FA9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1"/>
          </p:nvPr>
        </p:nvSpPr>
        <p:spPr/>
        <p:txBody>
          <a:bodyPr/>
          <a:p>
            <a:fld id="{335C58F3-A2D5-4AC4-A3DF-2525788EE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F9D041-23C9-4D49-9A50-D81227AA161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1"/>
          </p:nvPr>
        </p:nvSpPr>
        <p:spPr/>
        <p:txBody>
          <a:bodyPr/>
          <a:p>
            <a:fld id="{5C004085-41BE-4654-A242-7244C04F9C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1"/>
          </p:nvPr>
        </p:nvSpPr>
        <p:spPr/>
        <p:txBody>
          <a:bodyPr/>
          <a:p>
            <a:fld id="{905F73C4-348B-4900-8B2E-A9A79E0CAE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1"/>
          </p:nvPr>
        </p:nvSpPr>
        <p:spPr/>
        <p:txBody>
          <a:bodyPr/>
          <a:p>
            <a:fld id="{52E527F8-15CA-45D5-BDA4-63E92DA4E5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3CA0674-FE51-49EA-A4F6-420FB522AD6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2"/>
          </p:nvPr>
        </p:nvSpPr>
        <p:spPr/>
        <p:txBody>
          <a:bodyPr/>
          <a:p>
            <a:fld id="{396A8BF0-A735-45DA-A1D5-3EC74CEFDB3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2"/>
          </p:nvPr>
        </p:nvSpPr>
        <p:spPr/>
        <p:txBody>
          <a:bodyPr/>
          <a:p>
            <a:fld id="{2FFF999E-DF22-4A93-88BC-75D500EAB8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2"/>
          </p:nvPr>
        </p:nvSpPr>
        <p:spPr/>
        <p:txBody>
          <a:bodyPr/>
          <a:p>
            <a:fld id="{73B335FA-013B-4655-A4E0-2852589ADE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2"/>
          </p:nvPr>
        </p:nvSpPr>
        <p:spPr/>
        <p:txBody>
          <a:bodyPr/>
          <a:p>
            <a:fld id="{194D07CC-4274-4C44-8BB2-7D5F065F90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2"/>
          </p:nvPr>
        </p:nvSpPr>
        <p:spPr/>
        <p:txBody>
          <a:bodyPr/>
          <a:p>
            <a:fld id="{3AC41691-D270-4888-98E8-EB872891C4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2"/>
          </p:nvPr>
        </p:nvSpPr>
        <p:spPr/>
        <p:txBody>
          <a:bodyPr/>
          <a:p>
            <a:fld id="{42969BD9-E0A6-445B-9A23-7F156B0EC8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0D5FC4-01AB-44AF-BD57-03239FE2741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2"/>
          </p:nvPr>
        </p:nvSpPr>
        <p:spPr/>
        <p:txBody>
          <a:bodyPr/>
          <a:p>
            <a:fld id="{66678F21-ADB5-4348-8CE5-8042FCB598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2"/>
          </p:nvPr>
        </p:nvSpPr>
        <p:spPr/>
        <p:txBody>
          <a:bodyPr/>
          <a:p>
            <a:fld id="{E1554819-82AE-43C1-9DEA-A982B50E53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2"/>
          </p:nvPr>
        </p:nvSpPr>
        <p:spPr/>
        <p:txBody>
          <a:bodyPr/>
          <a:p>
            <a:fld id="{2C0B7518-B16E-42A7-A531-9FEB0E0406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2"/>
          </p:nvPr>
        </p:nvSpPr>
        <p:spPr/>
        <p:txBody>
          <a:bodyPr/>
          <a:p>
            <a:fld id="{F95FCE53-13BF-4077-AA81-E29BD17D50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2"/>
          </p:nvPr>
        </p:nvSpPr>
        <p:spPr/>
        <p:txBody>
          <a:bodyPr/>
          <a:p>
            <a:fld id="{0DF014F8-89CC-4C88-ABCC-415F5311C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2F5E19-7A77-4CB0-8835-C0C55F450D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E2B16A3C-3841-4EC5-8BE8-BC30891A1E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A383A87-1145-4A61-B3B1-AB97B36E01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49B06B8-1DFD-4045-A0C1-D52650B0F8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B4A90E3-2080-404C-9284-99E874C626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BBC845-A5E3-4730-8F24-907196E868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D4666FB-83BC-48FF-8A53-252F9AD8EB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94B0B5A-A7F1-49E8-8EFF-450B6B6B52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2D2101BB-D210-4A0B-94E8-B063540FBC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1D6A6528-AAE6-440E-AACD-3E3930422B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F06079FE-19DE-45BC-ABBD-3099A1B292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88CEAD-63B9-496F-BC6F-76982C18B4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6EB4232-329D-4B7D-8E59-40DE2C6F9E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F5DBF3A-3EE9-4DC2-8477-AEAA1A1530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365890B-4813-48F3-982A-785128A661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242FED8-03AF-42F3-A3A6-0CFC13C391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1E6CE-3DF7-45B6-85C8-7902B13A43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082510B-0B22-4B65-AD1C-BC569FA5AE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72B46C9-93B3-40AC-AB8A-F1B432FE65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19A4DB74-B602-4007-8AD8-DCE7AF6160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E684EDB8-1F3E-40E8-91E1-AA8328B816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09203047-19B3-405E-A4CA-E75E21E10B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53B5AAC9-1612-46D0-A816-5345A5FB2D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FA9B79F1-2808-4D03-B584-4D2492344C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14943C-08EC-4075-AF33-2310AE82C7F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CFDE4AD1-2F6E-4E6E-A23F-46B85F737E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08E30427-799C-409B-A2DF-2EBA00A14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5D197A9-859D-417D-842D-E170FB7D32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34AA8182-8F81-48B6-9C42-98E16D09BF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D33CDAC7-D524-4D5E-ACC9-DD1CEA16B2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A45FB287-E56E-4883-B3F2-B2A062712C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C4FAF231-BD4D-469B-9B28-878FD593A6C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21CBED65-61CB-4FD7-9096-37A81B5904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DEA2BC68-E2FF-44A9-A336-CC54711EFC7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24A1F461-BB0F-4B69-B8DF-56622A884C3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2E3865A0-9778-4386-82A3-3C46FEC3D7A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733CFE83-5E68-4FC6-8CAC-01DB177481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CBFCEB-100B-43F2-8880-BF36ECDE49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EF4A7DF-B3E5-4B48-BD9A-0B4618CF48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3A196E24-9ABC-4968-9795-F857457584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0E6B8584-7C33-4CBD-A131-8E601A0BBF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D0C8B407-272B-4BAA-A0EB-156C0F667C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F32FE14F-B5F4-4CA3-8E90-A6E1ABD7DED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409AD511-4709-4A3F-AB05-7E3A7B19EA4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5F3FB00C-2F25-448C-83B6-FD30294441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9D7ADEB1-DFCB-4EEB-B3FB-4BCB4807221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22D0C795-52EF-4D03-AFDA-BB364C9DDC2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69F25B5A-75E0-457F-B11C-FBB2E79716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D60DE2AA-38F0-45A1-8DC8-C23268E612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02C4B5B-92AD-433B-99C9-F3B643B42EA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82DEEB64-FAA3-4B1D-8333-7206545A44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F925D6-B492-4E50-B219-4513E4CBDD4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ED6526B7-B81B-45A3-9CE4-D93FA508AD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03C84DE1-CC3E-4404-B64A-F5F6B641596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DE5B99E2-408C-422B-9549-D23DE918FAE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3EAECF09-0465-4285-8D15-DF26C1082E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8A1B92A9-E966-40BD-946E-C6EE47C6E0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8C98A280-B887-44C1-AEDC-5BCD752621D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01B110BD-44CE-482D-B164-92945FD81B4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46715AA7-1707-498F-9C58-B88903F27D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E34B981-5B24-44E1-B0CB-1DD80962DC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4BD07BE7-0EFA-47C9-BBD5-F3748AFD0CA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695880AF-0994-405C-80DA-209070FF333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A809D290-CF61-43CE-976D-B7E5C433600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53AB8BF-06EA-428E-8314-96C15B800D8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73469439-F665-444E-A05B-DB86C6F4719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706AC503-A784-4C27-98BE-8E5E08D102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621C6C4C-7190-45E4-A982-213D288509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0C9D0C9A-1907-4CB9-8E24-BAC876C1491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BD2CB708-7935-48E3-8159-0E6E36D4CFB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CAE25734-EF35-48BF-AAB6-54FC129A5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6BB596A-0386-498B-A843-88308C1E1C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9C528674-9D0C-40C7-ABA1-E88838D874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C9474D40-BB80-4BB9-A520-80FB91091B0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0795B42A-26F5-4F3D-A983-8E152694D8A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D4ED3957-0008-4812-9F1E-1B4D164253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2ADC6191-5CF2-4247-B651-3481C192274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242A3E7-92F6-467C-B64F-7809D4CA5D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DD6D4A0C-F8DB-4E46-A4A4-163F160FD3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FFE90A5F-8F30-4849-8A1B-2D28EB200BD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59DF9828-87E4-4ADE-A8A3-40FBAE5AF09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9667BC32-A9A9-48ED-B8C9-B0A4D67C8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FB028B6-13F1-474D-863F-C66C29771B0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DBAB21E5-A9A0-4ADD-A1CB-B2BAE2705A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31A61459-7CA5-45C0-B815-654D0390B1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8A70CF09-EB6A-4496-89BF-ED99CEA4C9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58A5E72C-6BE5-4CEB-AB48-838AC4D0877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3FD1268F-CD5C-4E58-89D4-D799403EE1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8"/>
          </p:nvPr>
        </p:nvSpPr>
        <p:spPr/>
        <p:txBody>
          <a:bodyPr/>
          <a:p>
            <a:fld id="{FC7DE336-4094-4738-921F-A3B147B584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8"/>
          </p:nvPr>
        </p:nvSpPr>
        <p:spPr/>
        <p:txBody>
          <a:bodyPr/>
          <a:p>
            <a:fld id="{9D1F1166-EC00-4C70-94E8-FE38B4CABC9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20EEBC0-1E0D-433D-9D53-288D009DB8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DA1F511A-D328-43D7-B2E4-BBB3669ABD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4DFC06C6-5F0A-4A76-943F-74C4C0C976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3F15-7B78-47B3-95A5-1FAD2E104A7D}"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3"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4" name="PlaceHolder 3"/>
          <p:cNvSpPr>
            <a:spLocks noGrp="1"/>
          </p:cNvSpPr>
          <p:nvPr>
            <p:ph type="sldNum" idx="10"/>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7A4D-956D-4621-8E21-DE4ED9BA57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92"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93" name="PlaceHolder 3"/>
          <p:cNvSpPr>
            <a:spLocks noGrp="1"/>
          </p:cNvSpPr>
          <p:nvPr>
            <p:ph type="sldNum" idx="11"/>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7340-990A-4B33-B7CB-2EE6FDB6BA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3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32" name="PlaceHolder 3"/>
          <p:cNvSpPr>
            <a:spLocks noGrp="1"/>
          </p:cNvSpPr>
          <p:nvPr>
            <p:ph type="sldNum" idx="12"/>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F5AD-6000-44BB-AC5F-2A35B16A14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1"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0CDA-33E4-4EB8-9E3E-E5183D2ACC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9"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80" name="PlaceHolder 3"/>
          <p:cNvSpPr>
            <a:spLocks noGrp="1"/>
          </p:cNvSpPr>
          <p:nvPr>
            <p:ph type="sldNum" idx="3"/>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1E2D-0AC9-4E75-8791-3101B2AF18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18"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19"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CF09-B97E-4466-AFE4-9DAADC8A1B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8" name="PlaceHolder 3"/>
          <p:cNvSpPr>
            <a:spLocks noGrp="1"/>
          </p:cNvSpPr>
          <p:nvPr>
            <p:ph type="sldNum" idx="5"/>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8465-57A4-445E-967E-49CE1BD8FA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96"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97" name="PlaceHolder 3"/>
          <p:cNvSpPr>
            <a:spLocks noGrp="1"/>
          </p:cNvSpPr>
          <p:nvPr>
            <p:ph type="sldNum" idx="6"/>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6149-5A32-41E9-B07C-3EF8FD29D3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35"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36" name="PlaceHolder 3"/>
          <p:cNvSpPr>
            <a:spLocks noGrp="1"/>
          </p:cNvSpPr>
          <p:nvPr>
            <p:ph type="sldNum" idx="7"/>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9041-2470-424D-8949-741E661C06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74"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75" name="PlaceHolder 3"/>
          <p:cNvSpPr>
            <a:spLocks noGrp="1"/>
          </p:cNvSpPr>
          <p:nvPr>
            <p:ph type="sldNum" idx="8"/>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E88A-4A3E-4A5F-AB75-C3EAD79854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hape 36"/>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4"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5" name="PlaceHolder 3"/>
          <p:cNvSpPr>
            <a:spLocks noGrp="1"/>
          </p:cNvSpPr>
          <p:nvPr>
            <p:ph type="sldNum" idx="9"/>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967D-ECB4-42B4-941D-CBECFDBBAC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11040" y="744480"/>
            <a:ext cx="8521920" cy="20527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470" name="PlaceHolder 2"/>
          <p:cNvSpPr>
            <a:spLocks noGrp="1"/>
          </p:cNvSpPr>
          <p:nvPr>
            <p:ph type="subTitle"/>
          </p:nvPr>
        </p:nvSpPr>
        <p:spPr>
          <a:xfrm>
            <a:off x="311040" y="2833200"/>
            <a:ext cx="8521920" cy="793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pic>
        <p:nvPicPr>
          <p:cNvPr id="471" name="Shape 56" descr="1slajd.jpg"/>
          <p:cNvPicPr/>
          <p:nvPr/>
        </p:nvPicPr>
        <p:blipFill>
          <a:blip r:embed="rId1"/>
          <a:stretch/>
        </p:blipFill>
        <p:spPr>
          <a:xfrm>
            <a:off x="0" y="0"/>
            <a:ext cx="9144000" cy="5143680"/>
          </a:xfrm>
          <a:prstGeom prst="rect">
            <a:avLst/>
          </a:prstGeom>
          <a:ln w="0">
            <a:noFill/>
          </a:ln>
        </p:spPr>
      </p:pic>
      <p:pic>
        <p:nvPicPr>
          <p:cNvPr id="472" name="Obrázek 1" descr=""/>
          <p:cNvPicPr/>
          <p:nvPr/>
        </p:nvPicPr>
        <p:blipFill>
          <a:blip r:embed="rId2"/>
          <a:stretch/>
        </p:blipFill>
        <p:spPr>
          <a:xfrm>
            <a:off x="826920" y="1347840"/>
            <a:ext cx="2198880" cy="449280"/>
          </a:xfrm>
          <a:prstGeom prst="rect">
            <a:avLst/>
          </a:prstGeom>
          <a:ln w="0">
            <a:noFill/>
          </a:ln>
        </p:spPr>
      </p:pic>
      <p:pic>
        <p:nvPicPr>
          <p:cNvPr id="473" name="Obrázek 2" descr=""/>
          <p:cNvPicPr/>
          <p:nvPr/>
        </p:nvPicPr>
        <p:blipFill>
          <a:blip r:embed="rId3"/>
          <a:stretch/>
        </p:blipFill>
        <p:spPr>
          <a:xfrm>
            <a:off x="7667640" y="90360"/>
            <a:ext cx="1428840" cy="1393920"/>
          </a:xfrm>
          <a:prstGeom prst="rect">
            <a:avLst/>
          </a:prstGeom>
          <a:ln w="0">
            <a:noFill/>
          </a:ln>
        </p:spPr>
      </p:pic>
      <p:sp>
        <p:nvSpPr>
          <p:cNvPr id="474" name="Obdélník 1"/>
          <p:cNvSpPr/>
          <p:nvPr/>
        </p:nvSpPr>
        <p:spPr>
          <a:xfrm>
            <a:off x="4716360" y="4462560"/>
            <a:ext cx="4572000" cy="613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333333"/>
                </a:solidFill>
                <a:latin typeface="Verdana"/>
                <a:ea typeface="Calibri"/>
              </a:rPr>
              <a:t>"The European Commission support for the production of this publication does not constitute an endorsement of the contents which reflects the views only of the authors, and the Commission cannot be held responsi­ble for any use which may be made of the information contained therei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77" name="Shape 63" descr="2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80" name="Shape 70" descr="3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83" name="Shape 77" descr="4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86" name="Shape 84" descr="5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zena</dc:creator>
  <dc:description/>
  <dc:language>en-US</dc:language>
  <cp:lastModifiedBy>therova</cp:lastModifiedBy>
  <dcterms:modified xsi:type="dcterms:W3CDTF">2018-11-20T08:31:24Z</dcterms:modified>
  <cp:revision>3</cp:revision>
  <dc:subject/>
  <dc:title>Slajd 1</dc:title>
</cp:coreProperties>
</file>