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83155-02EC-4F55-A1F5-ABC8816E6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111F0B8-0002-4E0C-B8E4-1D0E138ADA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9"/>
          </p:nvPr>
        </p:nvSpPr>
        <p:spPr/>
        <p:txBody>
          <a:bodyPr/>
          <a:p>
            <a:fld id="{D904AB89-F062-4C68-B158-FFC1173F24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9"/>
          </p:nvPr>
        </p:nvSpPr>
        <p:spPr/>
        <p:txBody>
          <a:bodyPr/>
          <a:p>
            <a:fld id="{F95E5213-15D7-4F00-AD0A-5976D4BD0A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9"/>
          </p:nvPr>
        </p:nvSpPr>
        <p:spPr/>
        <p:txBody>
          <a:bodyPr/>
          <a:p>
            <a:fld id="{05202581-07B8-43FB-AC7F-C6C452FDE5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8BFAFCD6-40B8-4AE0-81F4-E649A9F010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38214E66-748D-461D-81DF-2E93F51FAA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9"/>
          </p:nvPr>
        </p:nvSpPr>
        <p:spPr/>
        <p:txBody>
          <a:bodyPr/>
          <a:p>
            <a:fld id="{A687DF1B-2066-48A5-9150-863F15DEFA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9"/>
          </p:nvPr>
        </p:nvSpPr>
        <p:spPr/>
        <p:txBody>
          <a:bodyPr/>
          <a:p>
            <a:fld id="{CEFE09BE-742A-4B81-A76B-087C756378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9"/>
          </p:nvPr>
        </p:nvSpPr>
        <p:spPr/>
        <p:txBody>
          <a:bodyPr/>
          <a:p>
            <a:fld id="{AFE511BA-21C3-4276-ACE0-F7F563175D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9"/>
          </p:nvPr>
        </p:nvSpPr>
        <p:spPr/>
        <p:txBody>
          <a:bodyPr/>
          <a:p>
            <a:fld id="{CC7622CA-C0FB-4E87-8E48-A4C53011C2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2F2FE0-F095-4240-BE82-D43BBAF16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8E9FC17D-0D6F-49B0-A568-0DDB1582AD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0"/>
          </p:nvPr>
        </p:nvSpPr>
        <p:spPr/>
        <p:txBody>
          <a:bodyPr/>
          <a:p>
            <a:fld id="{DAD7BD1F-A664-4B1A-A774-C26CF3BBBE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0"/>
          </p:nvPr>
        </p:nvSpPr>
        <p:spPr/>
        <p:txBody>
          <a:bodyPr/>
          <a:p>
            <a:fld id="{DFC8117E-32D3-43BF-AD85-3F3DCC5E5A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0"/>
          </p:nvPr>
        </p:nvSpPr>
        <p:spPr/>
        <p:txBody>
          <a:bodyPr/>
          <a:p>
            <a:fld id="{D19EFA92-4ED2-4F81-B011-BA7A5498023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0"/>
          </p:nvPr>
        </p:nvSpPr>
        <p:spPr/>
        <p:txBody>
          <a:bodyPr/>
          <a:p>
            <a:fld id="{DC5D7C6F-2BA7-4F91-B4CD-0712014465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0"/>
          </p:nvPr>
        </p:nvSpPr>
        <p:spPr/>
        <p:txBody>
          <a:bodyPr/>
          <a:p>
            <a:fld id="{6604D6C2-C99A-4A27-A6FD-88E320C851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0A712C5C-63CF-4B81-879F-72373DF066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B9BBCB68-DA81-4B08-AAB6-CBA84C647D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0"/>
          </p:nvPr>
        </p:nvSpPr>
        <p:spPr/>
        <p:txBody>
          <a:bodyPr/>
          <a:p>
            <a:fld id="{305E78AD-81EB-415B-80B8-DE117ECA21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0"/>
          </p:nvPr>
        </p:nvSpPr>
        <p:spPr/>
        <p:txBody>
          <a:bodyPr/>
          <a:p>
            <a:fld id="{A1CE5063-8803-4605-98E6-1E5BDA8CFBD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0"/>
          </p:nvPr>
        </p:nvSpPr>
        <p:spPr/>
        <p:txBody>
          <a:bodyPr/>
          <a:p>
            <a:fld id="{FC6B80A9-9511-4D1B-80AE-D1365EF90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D9BE62F9-081B-47A8-8FA1-65DCF76AE2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0"/>
          </p:nvPr>
        </p:nvSpPr>
        <p:spPr/>
        <p:txBody>
          <a:bodyPr/>
          <a:p>
            <a:fld id="{9FA5E5BB-974D-4E1C-85BB-7E47D5B295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3D81F0A-B1CC-4D5E-96E9-D5F6E487335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1"/>
          </p:nvPr>
        </p:nvSpPr>
        <p:spPr/>
        <p:txBody>
          <a:bodyPr/>
          <a:p>
            <a:fld id="{DFC5D94E-A8CE-4076-BC5C-D9214F1EAC2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1"/>
          </p:nvPr>
        </p:nvSpPr>
        <p:spPr/>
        <p:txBody>
          <a:bodyPr/>
          <a:p>
            <a:fld id="{FC4C3C3B-52C8-48C2-B714-0815808BB5D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1"/>
          </p:nvPr>
        </p:nvSpPr>
        <p:spPr/>
        <p:txBody>
          <a:bodyPr/>
          <a:p>
            <a:fld id="{D68A5245-FE36-4886-AD25-657DDADA9D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1"/>
          </p:nvPr>
        </p:nvSpPr>
        <p:spPr/>
        <p:txBody>
          <a:bodyPr/>
          <a:p>
            <a:fld id="{E8140006-607E-433A-B2C8-876E18A4BEB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1"/>
          </p:nvPr>
        </p:nvSpPr>
        <p:spPr/>
        <p:txBody>
          <a:bodyPr/>
          <a:p>
            <a:fld id="{B39797B8-0AC7-44F5-8F05-00C6936BB13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906A1F96-BA59-45B7-AFCF-42B6F0218A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8273E771-1150-4E92-8C81-176FEA74C9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1"/>
          </p:nvPr>
        </p:nvSpPr>
        <p:spPr/>
        <p:txBody>
          <a:bodyPr/>
          <a:p>
            <a:fld id="{8D48E13A-D34A-4EF6-BAA3-FEE062392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55A2FA-7D00-4917-837A-89E37DEDF7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1"/>
          </p:nvPr>
        </p:nvSpPr>
        <p:spPr/>
        <p:txBody>
          <a:bodyPr/>
          <a:p>
            <a:fld id="{7C206C20-3FBE-4859-B0CE-A4F6509F4E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1"/>
          </p:nvPr>
        </p:nvSpPr>
        <p:spPr/>
        <p:txBody>
          <a:bodyPr/>
          <a:p>
            <a:fld id="{A94FB6AA-1C6B-4B6B-8ADB-276F7E305E1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1"/>
          </p:nvPr>
        </p:nvSpPr>
        <p:spPr/>
        <p:txBody>
          <a:bodyPr/>
          <a:p>
            <a:fld id="{7B1010A9-31E6-4926-8EB6-44B14FB131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45B6C0-CA2C-4472-ADF2-F288849D6F9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2"/>
          </p:nvPr>
        </p:nvSpPr>
        <p:spPr/>
        <p:txBody>
          <a:bodyPr/>
          <a:p>
            <a:fld id="{8280671C-875F-4275-BB4C-A779E589D49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2"/>
          </p:nvPr>
        </p:nvSpPr>
        <p:spPr/>
        <p:txBody>
          <a:bodyPr/>
          <a:p>
            <a:fld id="{F86E28E4-A452-4171-B663-3D47AA4C4D3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2"/>
          </p:nvPr>
        </p:nvSpPr>
        <p:spPr/>
        <p:txBody>
          <a:bodyPr/>
          <a:p>
            <a:fld id="{82F63FF2-F4D2-4949-9092-5278D3EE3B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2"/>
          </p:nvPr>
        </p:nvSpPr>
        <p:spPr/>
        <p:txBody>
          <a:bodyPr/>
          <a:p>
            <a:fld id="{4B4F76F7-18C0-4957-BA28-F5D2CDEAE0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2"/>
          </p:nvPr>
        </p:nvSpPr>
        <p:spPr/>
        <p:txBody>
          <a:bodyPr/>
          <a:p>
            <a:fld id="{F9339983-F12F-413A-BE0A-2D8CE5FAF3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DD10D3BE-9E51-41B0-BDF3-AFED38B817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D2D609-43B9-4F3D-AD70-F47E005A7D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53758D6C-8497-4B1D-B1ED-6FD348AF49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2"/>
          </p:nvPr>
        </p:nvSpPr>
        <p:spPr/>
        <p:txBody>
          <a:bodyPr/>
          <a:p>
            <a:fld id="{19E1C744-B20F-4C5D-83AD-CD52CA51B5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2"/>
          </p:nvPr>
        </p:nvSpPr>
        <p:spPr/>
        <p:txBody>
          <a:bodyPr/>
          <a:p>
            <a:fld id="{5DC00447-F5C8-45CF-BA64-7EBA3ADF2B2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2"/>
          </p:nvPr>
        </p:nvSpPr>
        <p:spPr/>
        <p:txBody>
          <a:bodyPr/>
          <a:p>
            <a:fld id="{C4926771-940C-4702-BFE7-A95D463E89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2"/>
          </p:nvPr>
        </p:nvSpPr>
        <p:spPr/>
        <p:txBody>
          <a:bodyPr/>
          <a:p>
            <a:fld id="{F40F64F8-E94D-4CF9-A5CD-4CC0D3632C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3F239A-F001-4A73-8E4B-CEABF202C6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BE288D2-9477-4EE8-920E-B4EAA7AAEA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87C5E37-920D-453C-9396-C26784674F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D2EEA53-5F9F-4647-AC16-C0410B4E21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2FF0A7F-01F1-4DFB-BD75-002E3F73D2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301D79-AD6E-48D6-BF7C-CB06C1A15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98A12CC-A116-4A50-AB0F-CD7DBBB98A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6118D450-1CD2-4F64-805F-D8A3CF4183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23BBFD38-8FAC-4FFB-B4BA-B4051CAAE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381ABF22-4D3C-480D-B4A4-251CB095E6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327DB123-1B1F-461B-B8C5-8213513E3D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83A15C-FA6C-44D5-A1B9-FB75123CCE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9136C2C-2B14-4040-9CE7-C18B9BD79C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0BBD848-27B1-47DD-8BCD-A04B62E750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21790E43-E93A-4C37-A179-248DB1D238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AEBC075-7CE7-4F02-AC44-BB0792788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F4A2F2-7835-4289-ADBF-880D40098A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E5A40D3-3564-42DD-83C8-6F0878F1A4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7AA0890-DE0F-4151-A479-E11EF043F1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B85C65B-E0D9-4E0F-B65E-C6F357A718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E3E3349F-92ED-4BDC-9029-DE759F80A9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4A1866CF-711A-4654-BD0E-409C90DC90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E174D07E-FCCC-46DB-94E3-97BD2D4558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1633A0EE-B9ED-4C23-B687-57FFC8FE38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E5A2A8-E3ED-49FA-8F3E-8959D78C26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9EF4D968-F22B-4DC7-B7D1-3C42A7A1CC8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324DB473-D53B-41FD-931C-33B57B5F1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09785802-F24E-41D9-956B-1F167E6320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F2C1D07B-317A-464E-B9F6-8472F1D592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2786104C-E41E-4FCB-ADAE-0675CBD9BA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DEB13705-7A3D-44C1-82B9-96878664CD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B20E5AA5-CF4D-451E-A045-6A8AC396B9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300907A-ECEF-4E32-B175-A2BC1A0478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4C0331F-C609-4DE3-B9D6-28C6FAC984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8A781EC4-E9C5-452A-B803-BB3D5DE173E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FE895BFC-6917-47DD-8C2F-045F47DB14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6F11CB85-3A2B-466A-A395-496CF3EB833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7E0EB5-2E03-4878-910A-BC856BF7F9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DC5CA9D-BE95-452A-8D13-0D0B6CDC9F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7CD254CE-03C9-4EBC-BAF6-7B671DB6EE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BFC917C4-1112-48F3-943A-E5F4F943ED8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A8C32FC9-7FA8-478E-9E01-EB6F06CA91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DE6A4F7A-CB3D-489C-A614-F50906C8D23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A9A00703-FE26-4A63-9B0D-6ABE13AE51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0DFE1020-1673-42F5-8713-DC8F9D1352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978F44C6-A7EC-4E1E-A39D-3E767B59B6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4E594723-823E-458B-9EF4-EB6AFA3E0E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5BA42559-5F82-4D75-8307-07DFD95DB1B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0FBFD7FF-25D8-43FC-AB62-670C3B6F6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7D118DF-37C9-4058-B691-C1746B2C67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8ABB3451-4128-4FA0-B100-BBC89E474D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E7C347-37F6-42F4-8CAE-7AE0EC25A96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A44BCB47-8902-46A4-A307-4E5DD6D673D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DB96037D-FE62-4F89-9EA2-26A988821C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2CC0E508-0C87-40F3-90B5-E348E9AE52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E08C1B3E-CBCC-444A-9F7C-A0B30716DA0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4954B53F-F6E6-4A88-8DB1-E3102B1BE5C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A7FBB616-B89C-4BDB-AA07-2662A9F3F88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16FB8E4C-6B20-4FAB-8E2E-AC8C81DC4D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C7076D69-45D0-4F23-96DE-46FA89D5A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6E847B1-E50D-498B-8153-23A5C2F3B0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EF23268A-15C9-442B-B664-CF2DB3E2DB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48C1FF7E-B575-4DB8-A871-12FF99A382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BFDAF2D2-CC49-4714-BFE2-252823DD48C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9E7751D-E7EA-45EF-94B5-B6BAC89826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7B004DA5-9EBE-4BF3-9576-4A85341547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052B063D-562A-4D7A-B6CC-3591FD5609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0751866D-DC9A-4CC5-956E-C40A5564E54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A468E98E-768C-42AF-BC5D-10836E4EC9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19AB82CE-AE7E-4137-A45E-7BA29AD2AD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8B0330D7-D2DD-4C4E-BCFD-E4581A5DA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4C1E119-C20D-4277-BC40-C583434DA6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A4521ACE-EE61-4A32-A44D-54D762D823F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B48DC741-ED7E-445B-88C9-B24A98ED9F2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F82CD589-EEA8-4219-8FC1-7EFC7BF0680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2443850E-59B4-4384-AFB2-88ACEF92412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278D7F6D-2212-4670-9431-55BCCC0321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F489A4-1283-4F32-98A9-AA0CAF276C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AFB25DFD-1A08-4DB0-AF5A-72C41142A1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8"/>
          </p:nvPr>
        </p:nvSpPr>
        <p:spPr/>
        <p:txBody>
          <a:bodyPr/>
          <a:p>
            <a:fld id="{CC46F9C1-4AB5-4C1F-8418-26A3BB10A0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EE40A08A-F4A3-45DB-B6BF-DB9AB9E7D50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23D98DC4-0F9C-40B8-825D-B1F4769852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053516E-D48A-4661-A2DD-FBF9CA736F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11040" y="444600"/>
            <a:ext cx="8521920" cy="2657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8"/>
          </p:nvPr>
        </p:nvSpPr>
        <p:spPr/>
        <p:txBody>
          <a:bodyPr/>
          <a:p>
            <a:fld id="{3E6591B8-945B-428F-B0AC-B0C5DBCB85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6778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BEE8ED02-F173-4DDD-85A9-EC30DF89FC5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311040" y="1152360"/>
            <a:ext cx="415836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84589791-B148-4198-AB31-396D6F1612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4"/>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8"/>
          </p:nvPr>
        </p:nvSpPr>
        <p:spPr/>
        <p:txBody>
          <a:bodyPr/>
          <a:p>
            <a:fld id="{3EB32C35-682F-4674-986E-3B722D833F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2"/>
          <p:cNvSpPr>
            <a:spLocks noGrp="1"/>
          </p:cNvSpPr>
          <p:nvPr>
            <p:ph/>
          </p:nvPr>
        </p:nvSpPr>
        <p:spPr>
          <a:xfrm>
            <a:off x="311040" y="115236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3"/>
          <p:cNvSpPr>
            <a:spLocks noGrp="1"/>
          </p:cNvSpPr>
          <p:nvPr>
            <p:ph/>
          </p:nvPr>
        </p:nvSpPr>
        <p:spPr>
          <a:xfrm>
            <a:off x="311040" y="2936880"/>
            <a:ext cx="8521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8"/>
          </p:nvPr>
        </p:nvSpPr>
        <p:spPr/>
        <p:txBody>
          <a:bodyPr/>
          <a:p>
            <a:fld id="{A9BE6743-748F-4D91-B397-65CDBC33B2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2"/>
          <p:cNvSpPr>
            <a:spLocks noGrp="1"/>
          </p:cNvSpPr>
          <p:nvPr>
            <p:ph/>
          </p:nvPr>
        </p:nvSpPr>
        <p:spPr>
          <a:xfrm>
            <a:off x="3110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3"/>
          <p:cNvSpPr>
            <a:spLocks noGrp="1"/>
          </p:cNvSpPr>
          <p:nvPr>
            <p:ph/>
          </p:nvPr>
        </p:nvSpPr>
        <p:spPr>
          <a:xfrm>
            <a:off x="4677840" y="115236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4"/>
          <p:cNvSpPr>
            <a:spLocks noGrp="1"/>
          </p:cNvSpPr>
          <p:nvPr>
            <p:ph/>
          </p:nvPr>
        </p:nvSpPr>
        <p:spPr>
          <a:xfrm>
            <a:off x="3110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5"/>
          <p:cNvSpPr>
            <a:spLocks noGrp="1"/>
          </p:cNvSpPr>
          <p:nvPr>
            <p:ph/>
          </p:nvPr>
        </p:nvSpPr>
        <p:spPr>
          <a:xfrm>
            <a:off x="4677840" y="2936880"/>
            <a:ext cx="415836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8"/>
          </p:nvPr>
        </p:nvSpPr>
        <p:spPr/>
        <p:txBody>
          <a:bodyPr/>
          <a:p>
            <a:fld id="{D31196E2-A678-4769-8848-54FF2D2798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2"/>
          <p:cNvSpPr>
            <a:spLocks noGrp="1"/>
          </p:cNvSpPr>
          <p:nvPr>
            <p:ph/>
          </p:nvPr>
        </p:nvSpPr>
        <p:spPr>
          <a:xfrm>
            <a:off x="31104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3"/>
          <p:cNvSpPr>
            <a:spLocks noGrp="1"/>
          </p:cNvSpPr>
          <p:nvPr>
            <p:ph/>
          </p:nvPr>
        </p:nvSpPr>
        <p:spPr>
          <a:xfrm>
            <a:off x="319248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4"/>
          <p:cNvSpPr>
            <a:spLocks noGrp="1"/>
          </p:cNvSpPr>
          <p:nvPr>
            <p:ph/>
          </p:nvPr>
        </p:nvSpPr>
        <p:spPr>
          <a:xfrm>
            <a:off x="6073920" y="115236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5"/>
          <p:cNvSpPr>
            <a:spLocks noGrp="1"/>
          </p:cNvSpPr>
          <p:nvPr>
            <p:ph/>
          </p:nvPr>
        </p:nvSpPr>
        <p:spPr>
          <a:xfrm>
            <a:off x="31104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PlaceHolder 6"/>
          <p:cNvSpPr>
            <a:spLocks noGrp="1"/>
          </p:cNvSpPr>
          <p:nvPr>
            <p:ph/>
          </p:nvPr>
        </p:nvSpPr>
        <p:spPr>
          <a:xfrm>
            <a:off x="319248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7"/>
          <p:cNvSpPr>
            <a:spLocks noGrp="1"/>
          </p:cNvSpPr>
          <p:nvPr>
            <p:ph/>
          </p:nvPr>
        </p:nvSpPr>
        <p:spPr>
          <a:xfrm>
            <a:off x="6073920" y="2936880"/>
            <a:ext cx="2743920" cy="162936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8"/>
          </p:nvPr>
        </p:nvSpPr>
        <p:spPr/>
        <p:txBody>
          <a:bodyPr/>
          <a:p>
            <a:fld id="{68FA46AC-0E0D-4BB7-9BFD-4DB7DA1FFAB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2131A84-7F49-46F4-97DA-7BFCF26677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311040" y="1152360"/>
            <a:ext cx="8521920" cy="341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E9F2CB1F-6790-48C5-97A1-6C0DC43782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5EA7BA2E-6BCF-4EEB-A1F2-6657A86CC3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472240" y="4662360"/>
            <a:ext cx="549000" cy="393840"/>
          </a:xfrm>
          <a:prstGeom prst="rect">
            <a:avLst/>
          </a:prstGeom>
          <a:noFill/>
          <a:ln w="0">
            <a:noFill/>
          </a:ln>
        </p:spPr>
        <p:txBody>
          <a:bodyPr tIns="91440" bIns="914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A5A0-251F-4FBF-AC8F-83B160BF88D7}" type="slidenum">
              <a:rPr b="0" lang="en-US" sz="1000" spc="-1" strike="noStrike">
                <a:solidFill>
                  <a:srgbClr val="59595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3"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4" name="PlaceHolder 3"/>
          <p:cNvSpPr>
            <a:spLocks noGrp="1"/>
          </p:cNvSpPr>
          <p:nvPr>
            <p:ph type="sldNum" idx="10"/>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AAA5-E0F8-4383-A6C7-C23DDFC8A5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2"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93" name="PlaceHolder 3"/>
          <p:cNvSpPr>
            <a:spLocks noGrp="1"/>
          </p:cNvSpPr>
          <p:nvPr>
            <p:ph type="sldNum" idx="11"/>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6AB4-6391-438E-9353-1B31056AFF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31"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32" name="PlaceHolder 3"/>
          <p:cNvSpPr>
            <a:spLocks noGrp="1"/>
          </p:cNvSpPr>
          <p:nvPr>
            <p:ph type="sldNum" idx="12"/>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D8BE-5A63-4074-9573-B8AC538A82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1" name="PlaceHolder 3"/>
          <p:cNvSpPr>
            <a:spLocks noGrp="1"/>
          </p:cNvSpPr>
          <p:nvPr>
            <p:ph type="sldNum" idx="2"/>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A6C9-4F99-4B3F-9003-1200CF3688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9"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80" name="PlaceHolder 3"/>
          <p:cNvSpPr>
            <a:spLocks noGrp="1"/>
          </p:cNvSpPr>
          <p:nvPr>
            <p:ph type="sldNum" idx="3"/>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8330-E141-40DB-B8F8-BD47BE4DA4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18"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19" name="PlaceHolder 3"/>
          <p:cNvSpPr>
            <a:spLocks noGrp="1"/>
          </p:cNvSpPr>
          <p:nvPr>
            <p:ph type="sldNum" idx="4"/>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93A3-7F92-4A7D-8ACC-26778028C9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7"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8" name="PlaceHolder 3"/>
          <p:cNvSpPr>
            <a:spLocks noGrp="1"/>
          </p:cNvSpPr>
          <p:nvPr>
            <p:ph type="sldNum" idx="5"/>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6E71-5302-4414-9FA3-BD1CABEFC4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96"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97" name="PlaceHolder 3"/>
          <p:cNvSpPr>
            <a:spLocks noGrp="1"/>
          </p:cNvSpPr>
          <p:nvPr>
            <p:ph type="sldNum" idx="6"/>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48E6-1283-4A59-9FEA-D63FAA5C8C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35"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36" name="PlaceHolder 3"/>
          <p:cNvSpPr>
            <a:spLocks noGrp="1"/>
          </p:cNvSpPr>
          <p:nvPr>
            <p:ph type="sldNum" idx="7"/>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1BAA-51FD-4BFC-99A0-987F498F31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74"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75" name="PlaceHolder 3"/>
          <p:cNvSpPr>
            <a:spLocks noGrp="1"/>
          </p:cNvSpPr>
          <p:nvPr>
            <p:ph type="sldNum" idx="8"/>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EDE6-8044-4094-918D-61EBB290C3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hape 36"/>
          <p:cNvSpPr/>
          <p:nvPr/>
        </p:nvSpPr>
        <p:spPr>
          <a:xfrm>
            <a:off x="4572000" y="0"/>
            <a:ext cx="4572000" cy="5143680"/>
          </a:xfrm>
          <a:prstGeom prst="rect">
            <a:avLst/>
          </a:prstGeom>
          <a:solidFill>
            <a:srgbClr val="eeeee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1"/>
          <p:cNvSpPr>
            <a:spLocks noGrp="1"/>
          </p:cNvSpPr>
          <p:nvPr>
            <p:ph type="title"/>
          </p:nvPr>
        </p:nvSpPr>
        <p:spPr>
          <a:xfrm>
            <a:off x="311040" y="444600"/>
            <a:ext cx="8521920" cy="57312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4" name="PlaceHolder 2"/>
          <p:cNvSpPr>
            <a:spLocks noGrp="1"/>
          </p:cNvSpPr>
          <p:nvPr>
            <p:ph type="body"/>
          </p:nvPr>
        </p:nvSpPr>
        <p:spPr>
          <a:xfrm>
            <a:off x="311040" y="1152360"/>
            <a:ext cx="8521920" cy="341640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5" name="PlaceHolder 3"/>
          <p:cNvSpPr>
            <a:spLocks noGrp="1"/>
          </p:cNvSpPr>
          <p:nvPr>
            <p:ph type="sldNum" idx="9"/>
          </p:nvPr>
        </p:nvSpPr>
        <p:spPr>
          <a:xfrm>
            <a:off x="8472240" y="4662360"/>
            <a:ext cx="549000" cy="393840"/>
          </a:xfrm>
          <a:prstGeom prst="rect">
            <a:avLst/>
          </a:prstGeom>
          <a:noFill/>
          <a:ln w="0">
            <a:noFill/>
          </a:ln>
        </p:spPr>
        <p:txBody>
          <a:bodyPr tIns="91440" bIns="9144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9333-0E64-4392-A636-DECE3F7061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11040" y="744480"/>
            <a:ext cx="8521920" cy="20527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
        <p:nvSpPr>
          <p:cNvPr id="470" name="PlaceHolder 2"/>
          <p:cNvSpPr>
            <a:spLocks noGrp="1"/>
          </p:cNvSpPr>
          <p:nvPr>
            <p:ph type="subTitle"/>
          </p:nvPr>
        </p:nvSpPr>
        <p:spPr>
          <a:xfrm>
            <a:off x="311040" y="2833200"/>
            <a:ext cx="8521920" cy="793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pic>
        <p:nvPicPr>
          <p:cNvPr id="471" name="Shape 56" descr="1slajd.jpg"/>
          <p:cNvPicPr/>
          <p:nvPr/>
        </p:nvPicPr>
        <p:blipFill>
          <a:blip r:embed="rId1"/>
          <a:stretch/>
        </p:blipFill>
        <p:spPr>
          <a:xfrm>
            <a:off x="0" y="0"/>
            <a:ext cx="9144000" cy="5143680"/>
          </a:xfrm>
          <a:prstGeom prst="rect">
            <a:avLst/>
          </a:prstGeom>
          <a:ln w="0">
            <a:noFill/>
          </a:ln>
        </p:spPr>
      </p:pic>
      <p:pic>
        <p:nvPicPr>
          <p:cNvPr id="472" name="Obrázek 1" descr=""/>
          <p:cNvPicPr/>
          <p:nvPr/>
        </p:nvPicPr>
        <p:blipFill>
          <a:blip r:embed="rId2"/>
          <a:stretch/>
        </p:blipFill>
        <p:spPr>
          <a:xfrm>
            <a:off x="826920" y="1347840"/>
            <a:ext cx="2198880" cy="449280"/>
          </a:xfrm>
          <a:prstGeom prst="rect">
            <a:avLst/>
          </a:prstGeom>
          <a:ln w="0">
            <a:noFill/>
          </a:ln>
        </p:spPr>
      </p:pic>
      <p:pic>
        <p:nvPicPr>
          <p:cNvPr id="473" name="Obrázek 2" descr=""/>
          <p:cNvPicPr/>
          <p:nvPr/>
        </p:nvPicPr>
        <p:blipFill>
          <a:blip r:embed="rId3"/>
          <a:stretch/>
        </p:blipFill>
        <p:spPr>
          <a:xfrm>
            <a:off x="7667640" y="90360"/>
            <a:ext cx="1428840" cy="1393920"/>
          </a:xfrm>
          <a:prstGeom prst="rect">
            <a:avLst/>
          </a:prstGeom>
          <a:ln w="0">
            <a:noFill/>
          </a:ln>
        </p:spPr>
      </p:pic>
      <p:sp>
        <p:nvSpPr>
          <p:cNvPr id="474" name="Obdélník 1"/>
          <p:cNvSpPr/>
          <p:nvPr/>
        </p:nvSpPr>
        <p:spPr>
          <a:xfrm>
            <a:off x="4716360" y="4462560"/>
            <a:ext cx="4572000" cy="613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800" spc="-1" strike="noStrike">
                <a:solidFill>
                  <a:srgbClr val="333333"/>
                </a:solidFill>
                <a:latin typeface="Verdana"/>
                <a:ea typeface="Calibri"/>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77" name="Shape 63" descr="2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0" name="Shape 70" descr="3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3" name="Shape 77" descr="4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11040" y="444600"/>
            <a:ext cx="8521920" cy="6098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2"/>
          <p:cNvSpPr>
            <a:spLocks noGrp="1"/>
          </p:cNvSpPr>
          <p:nvPr>
            <p:ph/>
          </p:nvPr>
        </p:nvSpPr>
        <p:spPr>
          <a:xfrm>
            <a:off x="311040" y="1152360"/>
            <a:ext cx="8521920" cy="341640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pic>
        <p:nvPicPr>
          <p:cNvPr id="486" name="Shape 84" descr="5slajd.jpg"/>
          <p:cNvPicPr/>
          <p:nvPr/>
        </p:nvPicPr>
        <p:blipFill>
          <a:blip r:embed="rId1"/>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zena</dc:creator>
  <dc:description/>
  <dc:language>en-US</dc:language>
  <cp:lastModifiedBy>therova</cp:lastModifiedBy>
  <dcterms:modified xsi:type="dcterms:W3CDTF">2018-11-20T08:31:24Z</dcterms:modified>
  <cp:revision>3</cp:revision>
  <dc:subject/>
  <dc:title>Slajd 1</dc:title>
</cp:coreProperties>
</file>