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BB98-EABC-4225-BF2A-B36C703E076F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AC0-F569-48A0-A4FF-9C698D2E344D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37A5-E61C-4871-BF58-C4C573C6AC19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CE3E-DAED-4CE7-B5BA-8134C4C76CF4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385D-6FDE-41BD-BDB8-2AE46B0D0357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BCB-A00D-4F12-8B35-D7F2471039E0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81D-B4C9-48ED-A0F5-D39176CE9DC7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FA4-D3B9-4B7E-9F9E-D414661FBC85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8D0-B2FB-4659-B2A3-C473FF997B55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AAC-58F1-45ED-A503-1FF4C7B4EC34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BF3D-F94F-4362-8AF7-E59D0FF5F557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DC2F-79C9-4940-858E-C8ADEB7E613D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BA0-CD1E-4756-A44E-9FB05EE9DFF6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B7B-1478-4BC6-B6C8-08E72199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852-9C97-4ED6-AB6A-3D7992C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6AD-19C6-4CC7-BD2E-A144F891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32C-44CD-4B1F-9FDB-24DD970A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A34-01B6-4329-93E9-93868A41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24E-A4DC-4D5C-843C-8702D457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549-9B83-4DCB-B222-9166514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121-502F-46A6-9CCA-B8AC785F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3C7-6736-4517-AFA7-51B8D1E4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AC0-5F79-43BD-9857-AEE9E3C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C70-1C51-42C0-9988-B7FDA4E8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032-6113-4C22-9A8B-4FCCD51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1DF-A478-4C4A-BD74-51F91B4D27D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cbcbc"/>
                </a:solidFill>
                <a:latin typeface="Book Antiqua"/>
              </a:rPr>
              <a:t>Lithuania 20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2C82-E68C-43E0-A7E7-EA11FA2ED49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ačiakampis 3"/>
          <p:cNvSpPr/>
          <p:nvPr/>
        </p:nvSpPr>
        <p:spPr>
          <a:xfrm>
            <a:off x="1187280" y="2421000"/>
            <a:ext cx="6624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MY SWEET HOME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    </a:t>
            </a: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LITHUANIA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9" name="" descr="TOP 10: Italijos gamtos stebuklai"/>
          <p:cNvPicPr/>
          <p:nvPr/>
        </p:nvPicPr>
        <p:blipFill>
          <a:blip r:embed="rId2"/>
          <a:stretch/>
        </p:blipFill>
        <p:spPr>
          <a:xfrm>
            <a:off x="0" y="-338040"/>
            <a:ext cx="9144000" cy="7196040"/>
          </a:xfrm>
          <a:prstGeom prst="rect">
            <a:avLst/>
          </a:prstGeom>
          <a:ln w="0">
            <a:noFill/>
          </a:ln>
        </p:spPr>
      </p:pic>
      <p:sp>
        <p:nvSpPr>
          <p:cNvPr id="50" name="Stačiakampis 3"/>
          <p:cNvSpPr/>
          <p:nvPr/>
        </p:nvSpPr>
        <p:spPr>
          <a:xfrm>
            <a:off x="324000" y="765000"/>
            <a:ext cx="8820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Italijo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gamto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stebuklai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07italija-strombol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49880" y="350028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Book Antiqua"/>
              </a:rPr>
              <a:t>Strombolio ugnikalnis</a:t>
            </a:r>
            <a:r>
              <a:rPr b="0" lang="lt-LT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Stačiakampis 3"/>
          <p:cNvSpPr/>
          <p:nvPr/>
        </p:nvSpPr>
        <p:spPr>
          <a:xfrm>
            <a:off x="-612720" y="6026040"/>
            <a:ext cx="590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3103db"/>
                </a:solidFill>
                <a:latin typeface="Comic Sans MS"/>
              </a:rPr>
              <a:t>Stombolio ugnikalni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07italija-salin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29160" y="32464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uskos lauka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Stačiakampis 3"/>
          <p:cNvSpPr/>
          <p:nvPr/>
        </p:nvSpPr>
        <p:spPr>
          <a:xfrm>
            <a:off x="250920" y="6165720"/>
            <a:ext cx="489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omic Sans MS"/>
              </a:rPr>
              <a:t>Druskos lauka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urinio vietos rezervavimo ženklas 1"/>
          <p:cNvSpPr/>
          <p:nvPr/>
        </p:nvSpPr>
        <p:spPr>
          <a:xfrm>
            <a:off x="0" y="620640"/>
            <a:ext cx="8964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788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003300"/>
                </a:solidFill>
                <a:latin typeface="Comic Sans MS"/>
              </a:rPr>
              <a:t> class pupils:</a:t>
            </a:r>
            <a:r>
              <a:rPr b="1" lang="lt-LT" sz="80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bfb1d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bfb1d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lt-LT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72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omic Sans MS"/>
              </a:rPr>
              <a:t>Agn</a:t>
            </a:r>
            <a:r>
              <a:rPr b="1" lang="lt-LT" sz="4400" spc="-1" strike="noStrike">
                <a:solidFill>
                  <a:srgbClr val="003300"/>
                </a:solidFill>
                <a:latin typeface="Comic Sans MS"/>
              </a:rPr>
              <a:t>ė, Aldas, Arnas,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3300"/>
                </a:solidFill>
                <a:latin typeface="Comic Sans MS"/>
              </a:rPr>
              <a:t>Artūras, Eimantė, Gediminas, Gintautas, Nedas, Pauli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78840">
              <a:lnSpc>
                <a:spcPct val="10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ačiakampis 3"/>
          <p:cNvSpPr/>
          <p:nvPr/>
        </p:nvSpPr>
        <p:spPr>
          <a:xfrm>
            <a:off x="1187280" y="2421000"/>
            <a:ext cx="6624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MY SWEET HOME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    </a:t>
            </a: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LITHUANIA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07italija-etna.jpg"/>
          <p:cNvPicPr/>
          <p:nvPr/>
        </p:nvPicPr>
        <p:blipFill>
          <a:blip r:embed="rId2"/>
          <a:stretch/>
        </p:blipFill>
        <p:spPr>
          <a:xfrm>
            <a:off x="0" y="0"/>
            <a:ext cx="3276720" cy="215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07italija-poezijos-grota.jpg"/>
          <p:cNvPicPr/>
          <p:nvPr/>
        </p:nvPicPr>
        <p:blipFill>
          <a:blip r:embed="rId3"/>
          <a:stretch/>
        </p:blipFill>
        <p:spPr>
          <a:xfrm>
            <a:off x="0" y="2133720"/>
            <a:ext cx="3203640" cy="22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07italija-saturnijos.jpg"/>
          <p:cNvPicPr/>
          <p:nvPr/>
        </p:nvPicPr>
        <p:blipFill>
          <a:blip r:embed="rId4"/>
          <a:stretch/>
        </p:blipFill>
        <p:spPr>
          <a:xfrm>
            <a:off x="3203640" y="0"/>
            <a:ext cx="3024000" cy="227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07italija-vezuvijus.jpg"/>
          <p:cNvPicPr/>
          <p:nvPr/>
        </p:nvPicPr>
        <p:blipFill>
          <a:blip r:embed="rId5"/>
          <a:stretch/>
        </p:blipFill>
        <p:spPr>
          <a:xfrm>
            <a:off x="3203640" y="2276640"/>
            <a:ext cx="3240000" cy="243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07italija-renon.jpg"/>
          <p:cNvPicPr/>
          <p:nvPr/>
        </p:nvPicPr>
        <p:blipFill>
          <a:blip r:embed="rId6"/>
          <a:stretch/>
        </p:blipFill>
        <p:spPr>
          <a:xfrm>
            <a:off x="0" y="4365720"/>
            <a:ext cx="3203640" cy="249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07italija-grotte-nettuno.jpg"/>
          <p:cNvPicPr/>
          <p:nvPr/>
        </p:nvPicPr>
        <p:blipFill>
          <a:blip r:embed="rId7"/>
          <a:stretch/>
        </p:blipFill>
        <p:spPr>
          <a:xfrm>
            <a:off x="3203640" y="4724280"/>
            <a:ext cx="2952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07italija-grotta-azzurra.jpg"/>
          <p:cNvPicPr/>
          <p:nvPr/>
        </p:nvPicPr>
        <p:blipFill>
          <a:blip r:embed="rId8"/>
          <a:stretch/>
        </p:blipFill>
        <p:spPr>
          <a:xfrm>
            <a:off x="6156360" y="47242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07italija-strombolis.jpg"/>
          <p:cNvPicPr/>
          <p:nvPr/>
        </p:nvPicPr>
        <p:blipFill>
          <a:blip r:embed="rId9"/>
          <a:stretch/>
        </p:blipFill>
        <p:spPr>
          <a:xfrm>
            <a:off x="6443640" y="2349360"/>
            <a:ext cx="270036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07italija-saline.jpg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60" name="Stačiakampis 3"/>
          <p:cNvSpPr/>
          <p:nvPr/>
        </p:nvSpPr>
        <p:spPr>
          <a:xfrm>
            <a:off x="1835280" y="1700280"/>
            <a:ext cx="8820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Top </a:t>
            </a:r>
            <a:r>
              <a:rPr b="1" lang="en-US" sz="3200" spc="-1" strike="noStrike">
                <a:solidFill>
                  <a:srgbClr val="6238fc"/>
                </a:solidFill>
                <a:latin typeface="Comic Sans MS"/>
              </a:rPr>
              <a:t>10: Italijos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 gamtos stebukla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07italija-et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tačiakampis 3"/>
          <p:cNvSpPr/>
          <p:nvPr/>
        </p:nvSpPr>
        <p:spPr>
          <a:xfrm>
            <a:off x="0" y="5877000"/>
            <a:ext cx="6913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Etnos ugnikalni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07italija-poezijos-gro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Stačiakampis 3"/>
          <p:cNvSpPr/>
          <p:nvPr/>
        </p:nvSpPr>
        <p:spPr>
          <a:xfrm>
            <a:off x="0" y="6026040"/>
            <a:ext cx="691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Poezijos g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07italija-saturnijo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tačiakampis 3"/>
          <p:cNvSpPr/>
          <p:nvPr/>
        </p:nvSpPr>
        <p:spPr>
          <a:xfrm>
            <a:off x="0" y="5734080"/>
            <a:ext cx="6913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lt-LT" sz="4000" spc="-1" strike="noStrike">
                <a:solidFill>
                  <a:srgbClr val="c9c2d1"/>
                </a:solidFill>
                <a:latin typeface="Comic Sans MS"/>
              </a:rPr>
              <a:t>Saturnijos termo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07italija-vezuviju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Stačiakampis 3"/>
          <p:cNvSpPr/>
          <p:nvPr/>
        </p:nvSpPr>
        <p:spPr>
          <a:xfrm>
            <a:off x="0" y="5734080"/>
            <a:ext cx="4105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993300"/>
                </a:solidFill>
                <a:latin typeface="Comic Sans MS"/>
              </a:rPr>
              <a:t>   </a:t>
            </a:r>
            <a:r>
              <a:rPr b="1" lang="lt-LT" sz="4000" spc="-1" strike="noStrike">
                <a:solidFill>
                  <a:srgbClr val="993300"/>
                </a:solidFill>
                <a:latin typeface="Comic Sans MS"/>
              </a:rPr>
              <a:t>Vezuviju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07italija-ren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Stačiakampis 3"/>
          <p:cNvSpPr/>
          <p:nvPr/>
        </p:nvSpPr>
        <p:spPr>
          <a:xfrm>
            <a:off x="-973080" y="5805360"/>
            <a:ext cx="62276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438840"/>
                </a:solidFill>
                <a:latin typeface="Comic Sans MS"/>
              </a:rPr>
              <a:t>Piramidi di Ren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07italija-grotte-nettun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tačiakampis 3"/>
          <p:cNvSpPr/>
          <p:nvPr/>
        </p:nvSpPr>
        <p:spPr>
          <a:xfrm>
            <a:off x="-396720" y="5805360"/>
            <a:ext cx="48592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cc3300"/>
                </a:solidFill>
                <a:latin typeface="Comic Sans MS"/>
              </a:rPr>
              <a:t>Neptūno gr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07italija-grotta-azzur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Stačiakampis 3"/>
          <p:cNvSpPr/>
          <p:nvPr/>
        </p:nvSpPr>
        <p:spPr>
          <a:xfrm>
            <a:off x="-612720" y="5805360"/>
            <a:ext cx="590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3103db"/>
                </a:solidFill>
                <a:latin typeface="Comic Sans MS"/>
              </a:rPr>
              <a:t>Žydroji gr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34:05Z</dcterms:created>
  <dc:creator>Toma</dc:creator>
  <dc:description/>
  <dc:language>en-US</dc:language>
  <cp:lastModifiedBy>Aruna</cp:lastModifiedBy>
  <dcterms:modified xsi:type="dcterms:W3CDTF">2016-10-26T14:16:59Z</dcterms:modified>
  <cp:revision>43</cp:revision>
  <dc:subject/>
  <dc:title>MY SWEET HOME Lithuania Comenius project Europe on stage!</dc:title>
</cp:coreProperties>
</file>